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A3F4-C771-4D00-9AB8-57322618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490-881C-474B-AE16-CC18E9EE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64A-4A20-496C-933A-17FA934C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CDD-3040-4EB6-9DC0-D26DBE75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21AF-BE1F-445B-B73A-C05BCE01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8A81-3C06-4D06-9A24-BAD358DC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C6A6-B65F-437D-B435-21FEBA0F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C090-B6B5-4195-A502-FA9276AE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EC63-A12B-4234-8287-2705DA51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4508-D650-46C7-A048-7CC8CCFA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D1A4-92D5-4E35-8321-3392B606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790-DDD2-4108-A208-2BB8C82D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9B8E-0913-4F6D-98E4-A6767A08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5F43-8C03-4E47-BB5E-FFFF07CC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551B-ABEB-4CBD-8154-32123328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2B59-40AE-4FFC-B29A-88CB5C16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B1B2-18C6-4B74-8384-CE498A21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95E-389F-4BDA-96C4-1AB08BF6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CF1-AC16-4FFD-969C-49E6E1F9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72B-D822-4488-A6C1-B0ECF5DA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88C-B93A-4D2E-A953-2A6E62EC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8BF-3146-449C-9238-D70634CE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1F8-75ED-4882-92B8-8BED73C6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22E-E15A-43BF-9582-64D7E6DC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72EF-DCBE-4A07-9A0A-2D479A37F2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2783-B257-44FF-8949-89F7C634C0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 Black"/>
              </a:rPr>
              <a:t>Sinergia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mproving searches through community clustering of inform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e: Prox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s the concept of a session for each use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most HTTP requests it works as a normal prox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quests that are search queries on a search engine, it keeps track of the URLs returned for that query and logs activity on those UR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e: Prox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 to Sinergia web server are modified to provide user ID information on a fat UR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user’s session ends or he/she generates a new search store the collected information for that user in the D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a modularized architecture that allows to add support easily for additional search engine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e:Web 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front end for the Sinergia search eng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the backend for supporting the “Vote”, “Get Rank” and “Find Related” functionalit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relate a request to the user ID of the client it receives information from the proxy in the form of a fat UR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e: Scal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ability is achieved through the clear division in tasks between the Proxy, the Web Server and the D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 in number of search requests to our search engine should not create a bottleneck as the Database is decoupled from the Web Server and Proxy, thus allowing to scale any of it as nee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e: Scal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 state information about current searches is maintained in the Proxy and transactions to the database occur only when the user session ends or he makes a new sear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xy itself is scalable using clustering, as is the Web Ser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e: Avail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rchitecture addresses this by decoupling the Proxy, Web Server and Database therefore allowing the use of clustering for each of these components to provide a highly available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ing the hard state only in the Database provides availability of information as long the database is work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base availability can be ensured by modern database techniques like distribution and repli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useful information using today’s search engines technology is usually a time consuming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s in a “community” that share similar interests usually search for the same kind of th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no mechanism to share information about good search results, thus repeating time consuming search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n ide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ect information about search queries made by users in the commun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eople in the community to rank pa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 that information to provide a way to reuse previous searches made by users to speed up similar search queries from other users of the commun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Main ide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uster users by their surfing preferences and use that information to suggest/filter related link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posed s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ch user’s queries to search engines and keep track of the URLs they find interes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up a profile of the user based on his/her surfing behavior and correlate that information with profiles from other us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ment the search results obtained from the traditional search engines with our knowledge of what is interesting to users thus potentially saving search time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oals of the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n approach that requires as few changes as possible in the client side and in the existing internet infrastru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rage the power of our approach to as many client platforms as possible, ideally provide a truly platform-independent solu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oals of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ment existing search technology instead of reinventing it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 modular architecture that allow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le support of different search engi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sy switching between correlation techniqu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solution for high scalability and availabil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90720" y="1676520"/>
          <a:ext cx="350496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350496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905120" y="5486400"/>
          <a:ext cx="192384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5486400"/>
                    <a:ext cx="19238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057400" y="3657600"/>
            <a:ext cx="16765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2666880"/>
            <a:ext cx="457200" cy="3048120"/>
          </a:xfrm>
          <a:custGeom>
            <a:avLst/>
            <a:gdLst/>
            <a:ahLst/>
            <a:rect l="l" t="t" r="r" b="b"/>
            <a:pathLst>
              <a:path w="288" h="1920">
                <a:moveTo>
                  <a:pt x="0" y="0"/>
                </a:moveTo>
                <a:cubicBezTo>
                  <a:pt x="96" y="296"/>
                  <a:pt x="192" y="592"/>
                  <a:pt x="240" y="912"/>
                </a:cubicBezTo>
                <a:cubicBezTo>
                  <a:pt x="288" y="1232"/>
                  <a:pt x="288" y="1576"/>
                  <a:pt x="288" y="1920"/>
                </a:cubicBezTo>
              </a:path>
            </a:pathLst>
          </a:custGeom>
          <a:noFill/>
          <a:ln w="31680">
            <a:solidFill>
              <a:srgbClr val="0033cc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2743200"/>
            <a:ext cx="304920" cy="2895480"/>
          </a:xfrm>
          <a:custGeom>
            <a:avLst/>
            <a:gdLst/>
            <a:ahLst/>
            <a:rect l="l" t="t" r="r" b="b"/>
            <a:pathLst>
              <a:path w="264" h="1824">
                <a:moveTo>
                  <a:pt x="144" y="1824"/>
                </a:moveTo>
                <a:cubicBezTo>
                  <a:pt x="204" y="1496"/>
                  <a:pt x="264" y="1168"/>
                  <a:pt x="240" y="864"/>
                </a:cubicBezTo>
                <a:cubicBezTo>
                  <a:pt x="216" y="560"/>
                  <a:pt x="108" y="280"/>
                  <a:pt x="0" y="0"/>
                </a:cubicBezTo>
              </a:path>
            </a:pathLst>
          </a:custGeom>
          <a:noFill/>
          <a:ln w="31680">
            <a:solidFill>
              <a:srgbClr val="00ff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2819520"/>
            <a:ext cx="152280" cy="1295280"/>
          </a:xfrm>
          <a:prstGeom prst="line">
            <a:avLst/>
          </a:prstGeom>
          <a:ln w="31680">
            <a:solidFill>
              <a:srgbClr val="00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504960" y="4191120"/>
            <a:ext cx="75960" cy="1523880"/>
          </a:xfrm>
          <a:prstGeom prst="line">
            <a:avLst/>
          </a:prstGeom>
          <a:ln w="31680">
            <a:solidFill>
              <a:srgbClr val="00ff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3657600"/>
            <a:ext cx="15238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4114800"/>
            <a:ext cx="1752480" cy="0"/>
          </a:xfrm>
          <a:prstGeom prst="line">
            <a:avLst/>
          </a:prstGeom>
          <a:ln w="31680">
            <a:solidFill>
              <a:srgbClr val="3333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1828800"/>
            <a:ext cx="990720" cy="1143000"/>
          </a:xfrm>
          <a:prstGeom prst="flowChartMagneticDisk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666880" y="2590560"/>
            <a:ext cx="3200400" cy="10666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95880" y="2971440"/>
            <a:ext cx="228600" cy="6858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495680"/>
            <a:ext cx="3124080" cy="1447920"/>
          </a:xfrm>
          <a:custGeom>
            <a:avLst/>
            <a:gdLst/>
            <a:ahLst/>
            <a:rect l="l" t="t" r="r" b="b"/>
            <a:pathLst>
              <a:path w="1440" h="1056">
                <a:moveTo>
                  <a:pt x="0" y="1056"/>
                </a:moveTo>
                <a:cubicBezTo>
                  <a:pt x="528" y="1024"/>
                  <a:pt x="1056" y="992"/>
                  <a:pt x="1248" y="816"/>
                </a:cubicBezTo>
                <a:cubicBezTo>
                  <a:pt x="1440" y="640"/>
                  <a:pt x="1160" y="120"/>
                  <a:pt x="1152" y="0"/>
                </a:cubicBezTo>
              </a:path>
            </a:pathLst>
          </a:custGeom>
          <a:noFill/>
          <a:ln w="31680">
            <a:solidFill>
              <a:srgbClr val="0033cc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48006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st requ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4572720"/>
            <a:ext cx="132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arch requests (modifi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48027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arch qu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Vote for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Find 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19818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d state info stored i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3582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ft state info stored in 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e: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ty: The group of users that the proxy ser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xy collects information transparent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eb Server provides information to the users like related pages and results of search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the proxy and the Web Server talk to the same Datab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base maintains the hard state of the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7:20:49Z</dcterms:created>
  <dc:creator>J</dc:creator>
  <dc:description/>
  <dc:language>en-US</dc:language>
  <cp:lastModifiedBy>J</cp:lastModifiedBy>
  <cp:lastPrinted>2001-03-20T17:26:06Z</cp:lastPrinted>
  <dcterms:modified xsi:type="dcterms:W3CDTF">2001-03-20T19:59:48Z</dcterms:modified>
  <cp:revision>9</cp:revision>
  <dc:subject/>
  <dc:title>Sinergia</dc:title>
</cp:coreProperties>
</file>